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C290-E85D-47F3-9FCD-F32F963F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7055-40CF-403B-87BF-0631C856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68E4-B787-4E6D-9A32-1C907844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9362-8DEF-4089-BF83-B53A2627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74E4-1782-4017-B7E9-0C0890AF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FE03-ABAD-46B2-BCB8-6F621D2F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1761-4265-4CA9-8237-B4D66D30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77B2-6DF3-4177-B278-9099F6C2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4BEF-67B5-4F05-8482-7420AE00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95BF-309E-4552-B55D-651C47F1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423F-1B42-46AA-A695-0013AB64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CBB18-B9E9-4707-9F0A-FB793043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5930-CDFD-4F94-B0AF-E06CCE2A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B837-0F08-4974-BA00-BFF8D2F9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304D-33EB-40EE-ADCE-F50237F8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D36D-2849-4C28-87F6-DBDEFB58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5F0F-A678-48BD-9A60-F2953652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41EE-4FAC-424D-A25A-B52F23D2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E7D8-1514-4C3E-9993-688217DC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0A74-2BFF-48CD-B6A3-82EAC7D6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1E21-153B-4B8D-B5C8-2124552A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D014-CAB6-4D9D-911E-39B603D3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3085-9BC7-4783-B44B-7D131173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7FA4-CE90-4B6F-B7F6-32C381E2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2E6D-935C-4FD3-ADCD-F1F81103B5A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56A2-A44D-4C16-A817-F16E5F0608C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14084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80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88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Кога за Исуса таз повест че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в нашия грешен свят е бил Той сам и с нежност прегърнал е малки деца, на себе си казвам: „Да бях и аз там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11383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Да беше възложил преблагият Спас Своите ръце и на мойта глав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бях и аз чул благодатния глас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дойдат при Мене и малки деца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89172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Но още и днеска с молитва Христа аз мога намери във Божия храм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ко аз Го искрено търся сег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мога Му служи в блаженство и там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048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Децата в славното Свое неб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ще приеме, умити от грях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каза, че място приготвено 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небесното Божие царство за тях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8-03T15:55:09Z</dcterms:modified>
  <cp:revision>215</cp:revision>
  <dc:subject/>
  <dc:title>Slide 1</dc:title>
</cp:coreProperties>
</file>